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C82-879A-4B8D-B570-70296E69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120-7A49-41A8-9B48-8D85C4B9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E6A-9DEC-4BE1-A930-E5A18D79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0F1-8744-467C-A18A-004B522D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EDB-9D68-47C5-B8B5-294273BC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F02-20AD-499C-97E0-CF52485E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D9D-92E8-407E-A95F-C749BB68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385-F4BC-4649-80A0-0AF09BB9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BCC-CF2C-44F0-B669-4F716264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C89-6534-481D-A446-07034571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344-9B19-49DF-AC6B-E964E856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F4A-FA36-4AA7-BF8B-C335C788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9FE7-6578-48E3-AA17-EBF6796DD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_ Clase 6NH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26 de octu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terminamos el repaso para el Examen #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vide y clasifica según el número de sílab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7. Ex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loj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. Ra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rmin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. Exter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cel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0. Con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lle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1.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rcunfer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2. Ci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066680" y="35053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600200" y="35053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904760" y="350532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09680" y="35053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505320"/>
            <a:ext cx="1523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polisí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066680" y="39625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371600" y="39625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4038480"/>
            <a:ext cx="15242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trisí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218960" y="4495680"/>
            <a:ext cx="7596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600200" y="44956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981080" y="44956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4572000"/>
            <a:ext cx="1523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polisí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066680" y="502920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47560" y="502920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904760" y="502920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5105520"/>
            <a:ext cx="1523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polisí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990360" y="556272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295280" y="55627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600200" y="55627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5562720"/>
            <a:ext cx="1523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polisí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66680" y="60958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76160" y="6095880"/>
            <a:ext cx="7596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60958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14600" y="60958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6095880"/>
            <a:ext cx="1523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polisí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10080" y="35053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790960" y="350532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172200" y="35053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3505320"/>
            <a:ext cx="1523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polisí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10080" y="40384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43600" y="40384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038480"/>
            <a:ext cx="1523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trisí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10080" y="44956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67280" y="44956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172200" y="44956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629400" y="44956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4572000"/>
            <a:ext cx="15242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polisí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67280" y="51055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72200" y="51055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629400" y="51055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105520"/>
            <a:ext cx="1523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polisí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5638680"/>
            <a:ext cx="22100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monosí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638680" y="60958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6172200"/>
            <a:ext cx="1523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bisí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 de la Tarea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Divide y encierra la sílaba que tiene el ac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br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Zo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ñec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. Á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bliotec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9. 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sn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0.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llez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1. Balonc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léfo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2. Telégra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218960" y="205740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057400"/>
            <a:ext cx="533160" cy="53352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447560" y="2666880"/>
            <a:ext cx="7596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904760" y="2666880"/>
            <a:ext cx="7596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2666880"/>
            <a:ext cx="533160" cy="53352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295280" y="320040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904760" y="320040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209680" y="320040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3276720"/>
            <a:ext cx="380880" cy="53316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447560" y="3809880"/>
            <a:ext cx="7596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609480" cy="53352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371600" y="44197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828800" y="44197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419720"/>
            <a:ext cx="533520" cy="53316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371600" y="49528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676160" y="4952880"/>
            <a:ext cx="7596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502920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5029200"/>
            <a:ext cx="380880" cy="53352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90960" y="205740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057400"/>
            <a:ext cx="533160" cy="53352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5000" y="26668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95880" y="26668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715000" y="32767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324480" y="32767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8000" y="32767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162560" y="327672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3276720"/>
            <a:ext cx="380880" cy="53316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019560" y="388620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886200"/>
            <a:ext cx="609480" cy="53352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019560" y="441972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553080" y="44197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162560" y="441972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4495680"/>
            <a:ext cx="609480" cy="53352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019560" y="502920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324480" y="502920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58000" y="502920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5029200"/>
            <a:ext cx="380880" cy="53352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I- Divide e  indica la posición de las sílab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acción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Substracció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7. Bro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us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. Pa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ar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9. Ce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  Barri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0. Bal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447560" y="1523880"/>
            <a:ext cx="7596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33360" y="1523880"/>
            <a:ext cx="7596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19191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1919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0240" y="191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062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066680" y="365760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371600" y="365760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052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4052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9360" y="40528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752480" y="47242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51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51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447560" y="5867280"/>
            <a:ext cx="7596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62625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24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172200" y="15238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933960" y="1523880"/>
            <a:ext cx="7596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919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1320" y="19051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943600" y="251460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30621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019560" y="3657600"/>
            <a:ext cx="7596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4052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4052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943600" y="4724280"/>
            <a:ext cx="76320" cy="6098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51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51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172200" y="5791320"/>
            <a:ext cx="76320" cy="60948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62625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62625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3:40:53Z</dcterms:created>
  <dc:creator>Helen Zumaeta</dc:creator>
  <dc:description/>
  <dc:language>en-US</dc:language>
  <cp:lastModifiedBy>Helen Zumaeta</cp:lastModifiedBy>
  <dcterms:modified xsi:type="dcterms:W3CDTF">2011-10-26T13:50:47Z</dcterms:modified>
  <cp:revision>4</cp:revision>
  <dc:subject/>
  <dc:title>Me llamo __________ Clase 6NH La fecha es el 26 de octubre del 2011</dc:title>
</cp:coreProperties>
</file>